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B93-5795-43B4-9145-F8E306A0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E8D-5D73-449D-99C4-EC007916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EFB-30A6-4E53-B827-3CCB1470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13E-DEBC-4B3A-898F-7CDEB598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C3C-232A-48B5-B25E-648CA797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E6D-9CDF-4655-958D-F8099BD1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761-EB5C-44C6-91B5-25D6CA5E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602-4713-45EF-AC2C-ED915501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ECE-DCF8-425A-922D-9BEB5679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A26-7185-4060-98EB-F108CD6A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75C-8493-47AA-8497-7CA00D46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7A4-CD82-4000-8B70-FA7DF29E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6AFF-05A8-4118-A739-31F7603E9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who’s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300" spc="-1" strike="noStrike">
                <a:solidFill>
                  <a:srgbClr val="000000"/>
                </a:solidFill>
                <a:latin typeface="Arial"/>
              </a:rPr>
              <a:t>he’ll</a:t>
            </a:r>
            <a:endParaRPr b="0" lang="en-US" sz="2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eren’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they’ll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isn’t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can’t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hasn’t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there’s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wouldn’t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shouldn’t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where’s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3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2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you’re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500" spc="-1" strike="noStrike">
                <a:solidFill>
                  <a:srgbClr val="000000"/>
                </a:solidFill>
                <a:latin typeface="Arial"/>
              </a:rPr>
              <a:t>either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certainly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hadn’t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000000"/>
                </a:solidFill>
                <a:latin typeface="Arial"/>
              </a:rPr>
              <a:t>worst</a:t>
            </a:r>
            <a:endParaRPr b="0" lang="en-US" sz="2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5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pene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every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Arial"/>
              </a:rPr>
              <a:t>charm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300" spc="-1" strike="noStrike">
                <a:solidFill>
                  <a:srgbClr val="000000"/>
                </a:solidFill>
                <a:latin typeface="Arial"/>
              </a:rPr>
              <a:t>it’s</a:t>
            </a:r>
            <a:endParaRPr b="0" lang="en-US" sz="3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800" spc="-1" strike="noStrike">
                <a:solidFill>
                  <a:srgbClr val="000000"/>
                </a:solidFill>
                <a:latin typeface="Arial"/>
              </a:rPr>
              <a:t>wasn’t</a:t>
            </a:r>
            <a:endParaRPr b="0" lang="en-US" sz="2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we’ll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I’ll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600" spc="-1" strike="noStrike">
                <a:solidFill>
                  <a:srgbClr val="000000"/>
                </a:solidFill>
                <a:latin typeface="Arial"/>
              </a:rPr>
              <a:t>I’m</a:t>
            </a:r>
            <a:endParaRPr b="0" lang="en-US" sz="3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she’ll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4:36:51Z</dcterms:created>
  <dc:creator> </dc:creator>
  <dc:description/>
  <dc:language>en-US</dc:language>
  <cp:lastModifiedBy>Laura McDow</cp:lastModifiedBy>
  <dcterms:modified xsi:type="dcterms:W3CDTF">2010-09-21T15:16:16Z</dcterms:modified>
  <cp:revision>25</cp:revision>
  <dc:subject/>
  <dc:title>king</dc:title>
</cp:coreProperties>
</file>